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ECA2-9F56-463F-8C48-E82653159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es grands principes qui gouvernent la gestion de l ’eau en France (gestion par bassin versant, gestion équilibrée de la ressource, gestion concertée) ne sont pas remis en cause mais sont confortés par la dir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’innovation majeure de la directive consiste à fixer des objectifs de résultats pour tous les milieux aquatiques. Partant, elle en tire toutes les conséquences comm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’intégrer politiques de l’eau et politiques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ctorielles (aménagement du territoi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la nécessité de prendre en compte les aspects socio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 l’exigence de comparabilité entre le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'exigence de comparabilité entre les démarches menées par les différents états membres a rendu nécessaire la mise au point de méthodes communes sur différents suj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années 2001 et 2002 ont été largement consacrées à la définition de ces méthodes communes au niveau européén et national en liaison avec les bassins qui ont travaillés à une  première déclinaison opérationnelle de ces méthode (ex de la première carthographie des masses d'eaux naturel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 travail préparatoire nous permet aujourd'hui d'apporter des éléments techniques qui pourront servir de base aux travaux à engager avec les acteurs locaux sur les véritables enjeux de la directi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4D9-8057-4A70-A0C9-7CBA5BC3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B4F-6529-4975-A2CD-728AF982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18F-5119-4909-8EE6-773A9D82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404-127F-410E-9A84-F413DDFB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271-1DFC-47A4-A990-5F3E104F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9B0-D083-4352-9EA0-0509F4E3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F9D-69D8-4C02-8D96-A9304CAE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F75-0A49-409F-B04F-128E29A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87B-B499-446B-89AD-B4DBA796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97A-1F18-4494-BD67-EB72107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424E-7352-4E16-B47E-93106C9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A16-7794-4EFA-A07E-3C4F085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369-4094-4EC9-A1F5-031D4B442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50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62485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t de présentation de la DCE : avril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37704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14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880" y="2124360"/>
            <a:ext cx="835668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irective cadre remet-elle en cause les fondement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re politique de l’eau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lles sont les principales innovations de la directive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i fait quoi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440" y="2844360"/>
            <a:ext cx="3538440" cy="327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e principe de gestion par bassin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lanification p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SDAGE, 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organism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 (comité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sin, agences de l’e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19680" y="2849760"/>
            <a:ext cx="4952880" cy="326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grands bassins : les « distric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graphiques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plans de gestion » et d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programmes de mes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« autorités compétentes 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gées de la mise en œuvre 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831400"/>
            <a:ext cx="3538440" cy="32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Principe de gestion équilibrée de la ressource (loi sur l’eau du 3/01/1992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rvation des écosystèmes aquatiques de façon à satisfaire durablement les différents usages de l’eau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529120" y="647388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19680" y="2245320"/>
            <a:ext cx="49528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916720"/>
            <a:ext cx="4952880" cy="3080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 de bon état des milieux aquatiques en 2015 sauf dérogations motivées eu égard à des contraintes techniques, économiques, sociales ou environne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1375"/>
              </a:spcAft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gration des politiques d’aménagement du terri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1440" y="2245320"/>
            <a:ext cx="353844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076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37120" y="63770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La directive cadre remet-elle en ca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s fondements de notre politique de l’eau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1440" y="28479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297880"/>
            <a:ext cx="3843360" cy="388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75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6600"/>
                </a:solidFill>
                <a:latin typeface="Arial"/>
              </a:rPr>
              <a:t>Gestion concertée et participation des acteurs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Aft>
                <a:spcPts val="249"/>
              </a:spcAft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définition de la politique de l’eau en France repose sur l’association des acteurs concernés au niveau national (comité national de l ’eau), de bassin (comités de bassin), ou local (commission locale de l’eau, comités de rivières, etc.)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6880" y="1789560"/>
            <a:ext cx="449568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que prévoit la dir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297880"/>
            <a:ext cx="4495680" cy="390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cteurs locaux participeront activement aux travaux de la directive (état des lieux, définition des objectifs locaux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place des acteurs est confirmée et élargie à la participation du (grand)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1440" y="1800720"/>
            <a:ext cx="3843360" cy="38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80880" y="1411200"/>
            <a:ext cx="10134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95720" y="64911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280" y="2008800"/>
            <a:ext cx="784836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e obligation de résultats pour tous les mi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nforcement de l’approche économ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ntégration des politiques d’aménagement d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onstruction dans le temps d’un processus 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vail : échéances 2004, 2006, 2009, 2015, 2021,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36040" y="64911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Quelles sont les principales innov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e la directive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6280" y="2125080"/>
            <a:ext cx="7848360" cy="41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’où des méthodes communes pour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récier l’état des milieux et donc l’atteinte ou non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des objectifs (notion « d’intercalibration » des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systèmes d’évaluation de la qualité des milieu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prise en compte des aspects économ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mise en œuvre de « l’approche combinée »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pressions </a:t>
            </a:r>
            <a:r>
              <a:rPr b="1" lang="fr-F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impa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a délimitation des districts hydrograph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le découpage des masses d’ea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1440" y="1445760"/>
            <a:ext cx="79088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UNE EXIGENCE DE COMPARABILITE ET DE COH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ENTRE LES ETATS MEMBR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637120" y="641664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335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90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Discussion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: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Directive cadre sur l’eau, qui fait quoi ?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3640" y="24019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240" y="263052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65240" y="20210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79440" y="2706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9810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289728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277640"/>
            <a:ext cx="833904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789"/>
              </a:spcAft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MEDD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éparer les textes de transposition de la directiv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 droit frança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rer la coordination générale des travaux a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iveau national (cohérence des démarches d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fférents bassins entre elles et vis à vis des autr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états membr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Comité de Bassin : préparer le plan de ges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buClr>
                <a:srgbClr val="ff6600"/>
              </a:buClr>
              <a:buSzPct val="150000"/>
              <a:buFont typeface="Wingdings" charset="2"/>
              <a:buChar char=""/>
              <a:tabLst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ôle du préfet coordonnateur de bassin 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uver le 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éfinir et approuver le programme de mes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4762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39920" y="6037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46280" y="5602320"/>
            <a:ext cx="7498800" cy="644400"/>
            <a:chOff x="746280" y="5602320"/>
            <a:chExt cx="7498800" cy="644400"/>
          </a:xfrm>
        </p:grpSpPr>
        <p:sp>
          <p:nvSpPr>
            <p:cNvPr id="194" name=""/>
            <p:cNvSpPr/>
            <p:nvPr/>
          </p:nvSpPr>
          <p:spPr>
            <a:xfrm>
              <a:off x="980280" y="5640840"/>
              <a:ext cx="72648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457200" algn="ctr">
                <a:lnSpc>
                  <a:spcPct val="7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…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avec la participation active des acteurs locau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6280" y="5602320"/>
              <a:ext cx="781200" cy="594720"/>
            </a:xfrm>
            <a:custGeom>
              <a:avLst/>
              <a:gdLst>
                <a:gd name="textAreaLeft" fmla="*/ 104400 w 781200"/>
                <a:gd name="textAreaRight" fmla="*/ 676800 w 781200"/>
                <a:gd name="textAreaTop" fmla="*/ 104040 h 594720"/>
                <a:gd name="textAreaBottom" fmla="*/ 431280 h 59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6:00:58Z</dcterms:created>
  <dc:creator>CORON</dc:creator>
  <dc:description/>
  <dc:language>en-US</dc:language>
  <cp:lastModifiedBy>CORON</cp:lastModifiedBy>
  <cp:lastPrinted>2003-04-25T08:32:57Z</cp:lastPrinted>
  <dcterms:modified xsi:type="dcterms:W3CDTF">2003-04-25T08:57:22Z</dcterms:modified>
  <cp:revision>15</cp:revision>
  <dc:subject/>
  <dc:title>Aucun titre de diapositive</dc:title>
</cp:coreProperties>
</file>